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9D8B-2A51-4784-B693-87B0556E72B8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6644-56D0-4479-8DB7-0168A36271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B074-86F4-4AAF-80A7-32722711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928-DC72-4E6C-9649-977D6B51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B49C-66BF-4C3F-A311-54F4F116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FFBF-05F5-48EF-9FB2-FBEFB5C3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34D1-0D5E-40E3-B119-F6DC4AE8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3F38-61DE-47C8-9446-D5670B6A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7CF5-4032-46CD-A2CE-2A41E886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8CA1-D5DB-43D3-8344-7C477D2A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912C-BBAC-4D8C-BD7D-0A9518D9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3C0B-54B4-4611-92DB-E4C86A85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A0B-4ECD-45C7-9907-E37B46EA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E66-85BF-4E06-A21C-836EC2C1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75DE-8A94-42F7-9686-E845EB5149C4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Urban Zoni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33" descr="trans_sect"/>
          <p:cNvPicPr/>
          <p:nvPr/>
        </p:nvPicPr>
        <p:blipFill>
          <a:blip r:embed="rId1"/>
          <a:stretch/>
        </p:blipFill>
        <p:spPr>
          <a:xfrm>
            <a:off x="0" y="1357200"/>
            <a:ext cx="9147240" cy="5500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027"/>
          <p:cNvSpPr/>
          <p:nvPr/>
        </p:nvSpPr>
        <p:spPr>
          <a:xfrm>
            <a:off x="4263480" y="1857240"/>
            <a:ext cx="5295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B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028"/>
          <p:cNvSpPr/>
          <p:nvPr/>
        </p:nvSpPr>
        <p:spPr>
          <a:xfrm>
            <a:off x="2680200" y="1714680"/>
            <a:ext cx="6699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Inn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030"/>
          <p:cNvSpPr/>
          <p:nvPr/>
        </p:nvSpPr>
        <p:spPr>
          <a:xfrm>
            <a:off x="219240" y="1714680"/>
            <a:ext cx="86184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ut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Suburb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1363320" y="1714680"/>
            <a:ext cx="100224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nn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uburb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Urban Line Trans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028"/>
          <p:cNvSpPr/>
          <p:nvPr/>
        </p:nvSpPr>
        <p:spPr>
          <a:xfrm>
            <a:off x="5752080" y="1714680"/>
            <a:ext cx="6699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Inn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4"/>
          <p:cNvSpPr/>
          <p:nvPr/>
        </p:nvSpPr>
        <p:spPr>
          <a:xfrm>
            <a:off x="6792480" y="1714680"/>
            <a:ext cx="100224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nn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uburb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030"/>
          <p:cNvSpPr/>
          <p:nvPr/>
        </p:nvSpPr>
        <p:spPr>
          <a:xfrm>
            <a:off x="8077320" y="1714680"/>
            <a:ext cx="86184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ut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Suburb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rans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drawing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ansec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 city, you can quite easily identify the different zones, in much the same way as Burgess and the other theorists di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ects help you to identify and classify zones, enabling you to compare the characteristics of each are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identify the CBD, the older terraced housing, and as you move further from the city centre the newer housing of the suburb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CB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ocal point of the city, with the highest land pri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BD is where shops will locate as they know it is the most accessible point for the people of the c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high land prices mean that buildings tend to grow upwards, and this is why CBD's often have tall skyscrapers, particularly in American ci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in functions of the CBD will include retail, entertainment, financial services and other professional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Inner 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is Burgess's zone of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ransi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inner city in the 19th Century would have been the centre of industry for most citi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w paid workers would have lived in the many rows of terraced houses that were built beside the factori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wadays, although the factories have gone, many of the terraced houses remai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Inner city of many urban areas has undergone great chang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Inner 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are covered in detail in a later section. However once the industry moved out, the inner cities became areas in need of redevelop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plan was to build tall blocks of flats to replace the terra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occurred in the 1960's and 1970'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the 1990's Inner City redevelopment has taken the form of gentrification schemes aimed at rejuvenating the area, producing more of a community spirit, whilst trying to keep some of the old architec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Subu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suburban houses were built in the period between the two World Wars, during the first half of the 20th centu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tes full of detached and semi-detached houses grew rapidly as public and private transport improvements allowed people to live further away from their place of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the 1960's and 1970's these areas also continued to gr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The Rural-Urban Fri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ural-urban fringe is where most of the post war housing has been buil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in estates of mainly detached and semi-detached houses, the emphasis has often been on making the houses as spacious as possib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ain these housing developments were only possible thanks to the fact that most families now own at least one c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1:10:26Z</dcterms:created>
  <dc:creator>Dell_02</dc:creator>
  <dc:description/>
  <dc:language>en-US</dc:language>
  <cp:lastModifiedBy>Dell_02</cp:lastModifiedBy>
  <dcterms:modified xsi:type="dcterms:W3CDTF">2011-01-26T01:17:23Z</dcterms:modified>
  <cp:revision>1</cp:revision>
  <dc:subject/>
  <dc:title>Urban Zoning</dc:title>
</cp:coreProperties>
</file>